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5494-2D51-447C-892D-BB5EDA9E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moving on because I u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lve It!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pport all of these pieces and will cover in more detail…. This is just one example…..Remember the equation is the abstract (without concrete meaning without the language to support; only when understand the language behind can the student master this expectation – fluid thinking required to go back and forth….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I go back to Dan Meyer and his water tank problem; or even solving puzz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lve 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lped me as a non-math guru teacher to always return to a concrete strategy for exploring ANY kind of math problem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I go back to Dan Meyer and his water tank problem; or even solving puzz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ackground is not math certification; supporting kids with LD, most of whom HATE math. Math tends to be taught to support the teacher &amp; cover the standards vs. for the kids. How to support through Sp Ed support, etc… is challenging due to experience with math. What is the goal? Work completion or comprehens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 minutes to answer this question; share &amp; recor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 Meyer discusses during a presentation at 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lgebra? It is the language explaining what we see – but the visuals tend to go with geometry, how do they go together? THAT is one of the obstacles of developing math reason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 Curriculum Framework; Naturally as LD focused educators and parents, we tend to get nervous when folks like Dan Meyer say “be less helpful”. This is where being a professional is key. Be less helpful does not mean don’t help; or don’t do anything. Cp to Montessori as far as within structure vs. free for all…….. LEAD and Coach, not TELL and move o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760-2DAC-474C-AB6B-5CCD72D0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9AB-6345-4D16-89FA-878FBEF8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92C-BDB0-4FAF-89AE-64AEF06B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4A6-C5DB-4C1C-BEAF-00B2F783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9638-B45A-429B-B48A-A4A4A36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EB86-671E-42D1-8952-72262105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AF2-CAFE-4403-BCF3-28E8544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E86A-F5C5-4527-BD09-0430B970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522D-643E-4033-9C68-363CC9F7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D82B-ABF5-4917-99BC-8DF7719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6DAA-9D23-449E-AF77-C02AA54C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274-22F8-4CC1-B1DC-DF235E38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EAE0-FBC1-416D-9D6D-8F3C49E9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6753-B5B8-4AC6-A198-BDBB27F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814-07F6-4A8E-8AE7-F2809D6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748A-1BA4-4DDF-A3A6-AEDAAE22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CD50-7CAE-40BE-A0A5-728A3477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CFC-565D-484A-8BEB-5B50C771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C66-ADED-4D00-BF21-30587EE6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6B5-BF57-4BE6-8368-7F2F3E4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EB7-0D78-4784-84DB-E4FDD28E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76F-31B5-4B87-8380-35E393A3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79A-CD9F-42C9-A0F7-A9FF0F0B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57B-C4F4-4446-AD7E-FC20065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49B-3B3D-40E1-897D-9141AB7B67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3619-9379-4513-9C6B-82A45EF9D4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Problem Solving </a:t>
            </a:r>
            <a:br>
              <a:rPr sz="3600"/>
            </a:b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and Supporting </a:t>
            </a:r>
            <a:br>
              <a:rPr sz="3600"/>
            </a:b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Algebraic Thinking at the </a:t>
            </a:r>
            <a:br>
              <a:rPr sz="3600"/>
            </a:b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iddle and Secondary Grad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ke Michigan Acade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Amy Barto, Executive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s://www.curriculumcrafter.com/user/rptAnalysis.aspx?StandardID=124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nguage: quadrants and other voc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  TLW represent directly proportional relationships using verbal descriptions, tables, graphs and formulas, and translate among these representations.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CS/CE(s): A.PA.07.07; A.RP.07.02;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about the standard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mmmmmmm…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equation in another lesson in this Academic Standard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, students have translated into tabular and graphic form. They should also be able to translate into verbal description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 (contextual verbal trans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mber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s four more than twice the number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 (algebraic verbal trans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What If’s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t with the What If… (what if Alexis needs to save for a Playstation. She has saved $4 and plans to save $2 more dollars per week…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71600" y="609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ematical power is the ability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xplo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conjectu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ason logical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 variety of mathematical methods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ffective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to solve problems.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4343400"/>
            <a:ext cx="216720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caffolding Exploration and Effective Applica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T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46960" y="1991160"/>
            <a:ext cx="4251960" cy="3684960"/>
            <a:chOff x="4746960" y="1991160"/>
            <a:chExt cx="4251960" cy="3684960"/>
          </a:xfrm>
        </p:grpSpPr>
        <p:sp>
          <p:nvSpPr>
            <p:cNvPr id="145" name="_s45062"/>
            <p:cNvSpPr/>
            <p:nvPr/>
          </p:nvSpPr>
          <p:spPr>
            <a:xfrm>
              <a:off x="5576040" y="1991160"/>
              <a:ext cx="2593440" cy="2596320"/>
            </a:xfrm>
            <a:custGeom>
              <a:avLst/>
              <a:gdLst>
                <a:gd name="textAreaLeft" fmla="*/ 0 w 2593440"/>
                <a:gd name="textAreaRight" fmla="*/ 2593800 w 2593440"/>
                <a:gd name="textAreaTop" fmla="*/ 0 h 2596320"/>
                <a:gd name="textAreaBottom" fmla="*/ 2596680 h 25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5063"/>
            <p:cNvSpPr/>
            <p:nvPr/>
          </p:nvSpPr>
          <p:spPr>
            <a:xfrm rot="7200000">
              <a:off x="5928120" y="2606400"/>
              <a:ext cx="2596680" cy="2593440"/>
            </a:xfrm>
            <a:custGeom>
              <a:avLst/>
              <a:gdLst>
                <a:gd name="textAreaLeft" fmla="*/ 0 w 2596680"/>
                <a:gd name="textAreaRight" fmla="*/ 2597040 w 2596680"/>
                <a:gd name="textAreaTop" fmla="*/ 0 h 2593440"/>
                <a:gd name="textAreaBottom" fmla="*/ 2593800 h 259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5064"/>
            <p:cNvSpPr/>
            <p:nvPr/>
          </p:nvSpPr>
          <p:spPr>
            <a:xfrm rot="14400000">
              <a:off x="5220360" y="2606040"/>
              <a:ext cx="2596680" cy="2593440"/>
            </a:xfrm>
            <a:custGeom>
              <a:avLst/>
              <a:gdLst>
                <a:gd name="textAreaLeft" fmla="*/ 0 w 2596680"/>
                <a:gd name="textAreaRight" fmla="*/ 2597040 w 2596680"/>
                <a:gd name="textAreaTop" fmla="*/ 0 h 2593440"/>
                <a:gd name="textAreaBottom" fmla="*/ 2593800 h 259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45065"/>
            <p:cNvSpPr/>
            <p:nvPr/>
          </p:nvSpPr>
          <p:spPr>
            <a:xfrm>
              <a:off x="7581960" y="2466360"/>
              <a:ext cx="1039680" cy="10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ncre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5066"/>
            <p:cNvSpPr/>
            <p:nvPr/>
          </p:nvSpPr>
          <p:spPr>
            <a:xfrm>
              <a:off x="6352560" y="4599000"/>
              <a:ext cx="1039320" cy="10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resentatio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5067"/>
            <p:cNvSpPr/>
            <p:nvPr/>
          </p:nvSpPr>
          <p:spPr>
            <a:xfrm>
              <a:off x="5122800" y="2467800"/>
              <a:ext cx="1039680" cy="10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bstra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ffective Problem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Strategy = Works for ALL similar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Strategy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s with organizing concepts and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D the problem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 or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oding 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al thi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 Problems &amp;/or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oding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ding 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talk &amp; rou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 &amp;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s &amp;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 + y = 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4720" y="1981080"/>
            <a:ext cx="8639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is the contex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r this problem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importa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t into (your own) words – LANGUAGE gives mea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ARAPHRA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Best Practices for Math Learn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89880" y="1951200"/>
            <a:ext cx="4766040" cy="4129200"/>
            <a:chOff x="2189880" y="1951200"/>
            <a:chExt cx="4766040" cy="4129200"/>
          </a:xfrm>
        </p:grpSpPr>
        <p:sp>
          <p:nvSpPr>
            <p:cNvPr id="109" name="_s25609"/>
            <p:cNvSpPr/>
            <p:nvPr/>
          </p:nvSpPr>
          <p:spPr>
            <a:xfrm>
              <a:off x="3119400" y="1951200"/>
              <a:ext cx="2906640" cy="29095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9520"/>
                <a:gd name="textAreaBottom" fmla="*/ 2909880 h 29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5610"/>
            <p:cNvSpPr/>
            <p:nvPr/>
          </p:nvSpPr>
          <p:spPr>
            <a:xfrm rot="7200000">
              <a:off x="3515040" y="2640600"/>
              <a:ext cx="2909520" cy="2906640"/>
            </a:xfrm>
            <a:custGeom>
              <a:avLst/>
              <a:gdLst>
                <a:gd name="textAreaLeft" fmla="*/ 0 w 2909520"/>
                <a:gd name="textAreaRight" fmla="*/ 2909880 w 290952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5612"/>
            <p:cNvSpPr/>
            <p:nvPr/>
          </p:nvSpPr>
          <p:spPr>
            <a:xfrm rot="14400000">
              <a:off x="2720880" y="2640240"/>
              <a:ext cx="2909520" cy="2906640"/>
            </a:xfrm>
            <a:custGeom>
              <a:avLst/>
              <a:gdLst>
                <a:gd name="textAreaLeft" fmla="*/ 0 w 2909520"/>
                <a:gd name="textAreaRight" fmla="*/ 2909880 w 290952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5607"/>
            <p:cNvSpPr/>
            <p:nvPr/>
          </p:nvSpPr>
          <p:spPr>
            <a:xfrm>
              <a:off x="5367240" y="2483640"/>
              <a:ext cx="116532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cre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5608"/>
            <p:cNvSpPr/>
            <p:nvPr/>
          </p:nvSpPr>
          <p:spPr>
            <a:xfrm>
              <a:off x="3989520" y="4873680"/>
              <a:ext cx="116496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presentati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5611"/>
            <p:cNvSpPr/>
            <p:nvPr/>
          </p:nvSpPr>
          <p:spPr>
            <a:xfrm>
              <a:off x="2611440" y="2485080"/>
              <a:ext cx="116532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bstra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781680" y="2895480"/>
            <a:ext cx="78120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37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W</a:t>
            </a:r>
            <a:endParaRPr b="0" lang="en-US" sz="2400" spc="1" strike="noStrike">
              <a:ln w="9360">
                <a:solidFill>
                  <a:srgbClr val="ffcc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geb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600200"/>
            <a:ext cx="2895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ariabl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s and Express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Equa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atic Equa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 of Polynomial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orics and Finite 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105520" y="2209680"/>
            <a:ext cx="27622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3809880"/>
            <a:ext cx="723888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tting Mathematical Models to Dat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5880" y="380880"/>
            <a:ext cx="224820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dds Are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hematic: A MAP or math blue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ISUAL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me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4400" y="1600200"/>
            <a:ext cx="2895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ariabl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ing” Alge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s = cheat codes for the world around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05520" y="2209680"/>
            <a:ext cx="27622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3809880"/>
            <a:ext cx="723888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alyzing Mathematical Model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91320" y="762120"/>
            <a:ext cx="27622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sig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ting together the puzzle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up your mathematical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YPOTHES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14600" y="4572000"/>
            <a:ext cx="44956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TH POWER</a:t>
            </a:r>
            <a:endParaRPr b="0" lang="en-US" sz="1800" spc="1" strike="noStrike">
              <a:ln w="0">
                <a:noFill/>
              </a:ln>
              <a:solidFill>
                <a:srgbClr val="ffcc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Palatino Linotype"/>
              </a:rPr>
              <a:t>Implementation of Best Pract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Requires access to concrete supports at ALL age levels to reinforce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2000" t="19859" r="19001" b="5926"/>
          <a:stretch/>
        </p:blipFill>
        <p:spPr>
          <a:xfrm>
            <a:off x="914400" y="2590920"/>
            <a:ext cx="4419720" cy="340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lum bright="30000"/>
          </a:blip>
          <a:srcRect l="32232" t="0" r="0" b="-2058"/>
          <a:stretch/>
        </p:blipFill>
        <p:spPr>
          <a:xfrm>
            <a:off x="5867280" y="2971800"/>
            <a:ext cx="236232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71600" y="609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ematical power is the ability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xplo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conjectu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ason logical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 variety of mathematical methods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ffective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to solve problems.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352680" y="4343400"/>
            <a:ext cx="216720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realistic tar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is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ing – not a bullsey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p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ization &amp;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talk &amp; rou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ication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til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MPU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-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 I right?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I am right AND I can prove i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048120"/>
            <a:ext cx="99072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E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ultimate goal of mathematics education is for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all student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to develop mathematical power to participate fully as a citizen and worker in our contemporary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2086200" cy="172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00800" y="4572000"/>
            <a:ext cx="2035080" cy="1727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dditional Areas for Supporting Problem Solving Development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ual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ing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verbal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, C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Roadmap for Math Achievement for All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Comprehensive School Reform and Instr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Math Panel Reports, Jan.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DerHeyden, A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TI and Math Instru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TI Action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sa, David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ow the Brain Learns Mathemati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n de Walle Professional Mathematics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ensberger, Hans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umber Dev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acher’s Role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ing students with sufficient practice distributed over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a conceptually rich and varied mix of problems to support their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and support students in their efforts to master difficult mathematics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belie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effort, not just inherent talent, counts in learning mathematics can improve their perform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me Sources for Mate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ETA Cuiseni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etacuisenaire.co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Exceptional Inno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ffffff"/>
                </a:solidFill>
                <a:latin typeface="Arial"/>
              </a:rPr>
              <a:t>Solve It!: A Practical Approach to Teaching Mathematical Problem Solv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exinn.net/solve-i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Pearson AGS Gl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pearsonschool.com/index.cfm?locator=PSZ1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Key Curriculum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keypress.co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2481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LDA of Ame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www.ldaamerica.u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National Library of Virtual Manipul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nlvm.usu.ed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The Algebra 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www.algebra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Funb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www.funbrain.com/math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National Council for Teachers of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illuminations.nct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Wikisp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www.wikispace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ne Key Obstacle: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IS MATH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th Class Needs a Make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 Meyer (at 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blog: http://blog.mrmeyer.co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archive for algebra tags: http://blog.mrmeyer.com/?cat=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620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Mathematics is the science of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patterns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and relationship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t is the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language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and logic of our technolog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S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0851200">
            <a:off x="685440" y="4114440"/>
            <a:ext cx="44197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ncept Base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OMEWOR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nguage and Log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 of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ing Patterns thr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s, Theorems and Proo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s: Developing Math Dendrites &amp; Supporting Pattern Recognition and Languag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velty + Application can develop Fluid Thinking while Mastering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Observation: Bring at least # examples of addition you observe over the next 24 hours. [CLASSROOM: Record these in math language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81080" y="533520"/>
            <a:ext cx="5639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ACT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1:49:26Z</dcterms:created>
  <dc:creator>Barto</dc:creator>
  <dc:description/>
  <dc:language>en-US</dc:language>
  <cp:lastModifiedBy>Barto</cp:lastModifiedBy>
  <dcterms:modified xsi:type="dcterms:W3CDTF">2010-11-15T17:39:09Z</dcterms:modified>
  <cp:revision>37</cp:revision>
  <dc:subject/>
  <dc:title>Supporting Students  for Mathematical Success</dc:title>
</cp:coreProperties>
</file>